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C3A3-6B35-4D48-95A6-046C078B07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E65B-D925-49A5-9B7A-6CA06C4E9467}"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C553D-289A-4581-AA55-EA36E03B6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821E-9474-4E7D-A173-1064D3B5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899D2-232E-4224-8DCD-284622596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6063C-224B-41D2-9424-6246EAF61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FEA25-725C-4853-9AB0-452851DC2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7FAE7-277D-4E94-B2AA-CD1696575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1C51E-9653-4C99-B546-211135D96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CBAF6-AA98-443A-AA0A-7C28E9321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64A6D-CDA2-42E8-925D-A3604E9F0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466E1-0C30-453F-ACAB-39BC44917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99361-96F8-4568-9B26-B8F58F0A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925E-6976-413D-804D-A90DA655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73BDA-BA8F-4EFA-B03D-E2787F196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24F21-A96A-49BF-8529-123FA4EB8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EF60E-902C-40F8-B382-FE12CFED0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AE71E-225B-4D9E-89FE-B03184757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4C4A1-553C-4292-ABA1-75E582378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395A0-6B11-4DC7-B6FE-8A175AC2F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83F4E-BC59-4330-A606-F762DBE3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BFC9-C697-487C-82A4-0F07CF42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220D-5E66-4C82-A0BD-77B3A49B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4F31-DBE9-4D35-BDD0-DA9E151F1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B90D-513D-46CB-B586-6CE1D28F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D052-A860-4AE4-A4A5-7CD79E541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F1C2-81DD-4C0F-A0FA-2E90088F5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89F9-6F08-47E6-8BE7-7E56A37FAAFE}"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914040" y="685800"/>
            <a:ext cx="772164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Integrated Marketing Communication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tage of the Buying Decision</a:t>
            </a:r>
            <a:endParaRPr b="0" lang="en-US" sz="4400" spc="-1" strike="noStrike">
              <a:solidFill>
                <a:srgbClr val="ffffcc"/>
              </a:solidFill>
              <a:latin typeface="Arial"/>
            </a:endParaRPr>
          </a:p>
        </p:txBody>
      </p:sp>
      <p:pic>
        <p:nvPicPr>
          <p:cNvPr id="152" name="Picture 3" descr=""/>
          <p:cNvPicPr/>
          <p:nvPr/>
        </p:nvPicPr>
        <p:blipFill>
          <a:blip r:embed="rId1"/>
          <a:srcRect l="0" t="5046" r="0" b="12543"/>
          <a:stretch/>
        </p:blipFill>
        <p:spPr>
          <a:xfrm>
            <a:off x="457200" y="1371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ales Promotion</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Consumer Oriented Sales Promotions</a:t>
            </a:r>
            <a:endParaRPr b="0" lang="en-US" sz="32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upon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eal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emium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test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weepstake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ample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tinuity Programs (Frequent user promo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oint-of-Purchase display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sumer rebat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ales Promotion</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de Oriented Sales Promotions</a:t>
            </a:r>
            <a:endParaRPr b="0" lang="en-US" sz="32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llowan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iscoun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op Advertis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raining of sales forc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ublic Relations</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ublic relation hopes to positively influence the perceptions of potential customers towards the organiz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Organizations do not directly pay for Public Rela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Unlike with paid advertising organizations exercise limited control over public relations effor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ublic Relations Tools</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ome Frequently used Publicity Tools</a:t>
            </a:r>
            <a:endParaRPr b="0" lang="en-US" sz="32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News releas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News Conferen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ess Ki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formational Documen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Web Sit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pecial Event Sponsorship</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ublic Service Activiti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omotional Material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Direct Mail</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nds information on the organization and its products directly to households through the ma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Variations include Telemarketing, Fax marketing, Internet marketing and tele-shopping.</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JUNK MAIL?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Developing a Promotional Program</a:t>
            </a:r>
            <a:endParaRPr b="0" lang="en-US" sz="4000" spc="-1" strike="noStrike">
              <a:solidFill>
                <a:srgbClr val="ffffcc"/>
              </a:solidFill>
              <a:latin typeface="Arial"/>
            </a:endParaRPr>
          </a:p>
        </p:txBody>
      </p:sp>
      <p:pic>
        <p:nvPicPr>
          <p:cNvPr id="170" name="Picture 3" descr=""/>
          <p:cNvPicPr/>
          <p:nvPr/>
        </p:nvPicPr>
        <p:blipFill>
          <a:blip r:embed="rId1"/>
          <a:srcRect l="0" t="10093" r="0" b="17590"/>
          <a:stretch/>
        </p:blipFill>
        <p:spPr>
          <a:xfrm>
            <a:off x="457200" y="14479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ge 1 - Planning</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o do we want to sell to? – this is our target audienc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are our objectives? (unit sales, market share etc.)</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t a budget (% of sales, Competitive parity, AYCA,O/T budget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lect the right mix of promotional tool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sign and schedule a promotion with a consistent message.</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ep 2 – Executing the Plan</a:t>
            </a:r>
            <a:endParaRPr b="0" lang="en-US" sz="4400" spc="-1" strike="noStrike">
              <a:solidFill>
                <a:srgbClr val="ffffcc"/>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motional campaigns are made better by protesting the promotional campaign.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ry out the Promotion – again being sure to have present a consistent message across the promotional mix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ep 3 - Control</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sure the campaign is meeting the objectiv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st –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necessary changes</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view steps 1 &amp; 2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26" name="Picture 4" descr=""/>
          <p:cNvPicPr/>
          <p:nvPr/>
        </p:nvPicPr>
        <p:blipFill>
          <a:blip r:embed="rId1"/>
          <a:stretch/>
        </p:blipFill>
        <p:spPr>
          <a:xfrm>
            <a:off x="0" y="0"/>
            <a:ext cx="9144000" cy="628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Understanding the Communication Proces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9-1</a:t>
            </a:r>
            <a:endParaRPr b="0" lang="en-US" sz="32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The Communication process involves the two way flow of information and ideas (a message) between a sender and recei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Many things influence how a message is received.  A persons background, experience and interest with the subject being communicated will have a great bearing on how much of the message is understoo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ommunication Process</a:t>
            </a:r>
            <a:endParaRPr b="0" lang="en-US" sz="4400" spc="-1" strike="noStrike">
              <a:solidFill>
                <a:srgbClr val="ffffcc"/>
              </a:solidFill>
              <a:latin typeface="Arial"/>
            </a:endParaRPr>
          </a:p>
        </p:txBody>
      </p:sp>
      <p:pic>
        <p:nvPicPr>
          <p:cNvPr id="132" name="Picture 3" descr=""/>
          <p:cNvPicPr/>
          <p:nvPr/>
        </p:nvPicPr>
        <p:blipFill>
          <a:blip r:embed="rId1"/>
          <a:srcRect l="0" t="6728" r="0" b="14225"/>
          <a:stretch/>
        </p:blipFill>
        <p:spPr>
          <a:xfrm>
            <a:off x="0" y="1371600"/>
            <a:ext cx="91440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Understanding the Communication Proces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key influence on how much of a given message is understood depends on how much external </a:t>
            </a:r>
            <a:r>
              <a:rPr b="1" lang="en-GB" sz="2400" spc="-1" strike="noStrike">
                <a:solidFill>
                  <a:srgbClr val="eaeaea"/>
                </a:solidFill>
                <a:latin typeface="Verdana"/>
              </a:rPr>
              <a:t>noise </a:t>
            </a:r>
            <a:r>
              <a:rPr b="0" lang="en-GB" sz="2400" spc="-1" strike="noStrike">
                <a:solidFill>
                  <a:srgbClr val="eaeaea"/>
                </a:solidFill>
                <a:latin typeface="Verdana"/>
              </a:rPr>
              <a:t>there is.  Noise not only means sound noises but other things that the receiver may be thinking of when  you (as the sender) are speaking to them. (Take, for example, this that you are currently reading -- where/are you also thinking about something else? -- that would be noise.) </a:t>
            </a:r>
            <a:endParaRPr b="0" lang="en-US" sz="2400" spc="-1" strike="noStrike">
              <a:solidFill>
                <a:srgbClr val="eaeaea"/>
              </a:solidFill>
              <a:latin typeface="Verdan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32580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nother key element in the communications process is the ability of the receiver to offer </a:t>
            </a:r>
            <a:r>
              <a:rPr b="1" lang="en-GB" sz="2400" spc="-1" strike="noStrike">
                <a:solidFill>
                  <a:srgbClr val="eaeaea"/>
                </a:solidFill>
                <a:latin typeface="Verdana"/>
              </a:rPr>
              <a:t>feedback.</a:t>
            </a:r>
            <a:r>
              <a:rPr b="0" lang="en-GB" sz="2400" spc="-1" strike="noStrike">
                <a:solidFill>
                  <a:srgbClr val="eaeaea"/>
                </a:solidFill>
                <a:latin typeface="Verdana"/>
              </a:rPr>
              <a:t>  Feedback allows for clarification of the communications process.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Promotional Mix Tool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The Promotional Mix (or Marketing Communications mix) is the combination of tools available to marketers in order to communicate with potential customers.</a:t>
            </a:r>
            <a:endParaRPr b="0" lang="en-US" sz="2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ools includ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dvertis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omotion</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ublic relation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ersonal Sell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irect Selling</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9" name="AutoShape 4"/>
          <p:cNvSpPr/>
          <p:nvPr/>
        </p:nvSpPr>
        <p:spPr>
          <a:xfrm>
            <a:off x="3048120" y="4191120"/>
            <a:ext cx="1447560" cy="1218960"/>
          </a:xfrm>
          <a:custGeom>
            <a:avLst/>
            <a:gdLst>
              <a:gd name="textAreaLeft" fmla="*/ 0 w 1447560"/>
              <a:gd name="textAreaRight" fmla="*/ 522720 w 1447560"/>
              <a:gd name="textAreaTop" fmla="*/ 0 h 1218960"/>
              <a:gd name="textAreaBottom" fmla="*/ 1219320 h 121896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40" name="Text Box 6"/>
          <p:cNvSpPr/>
          <p:nvPr/>
        </p:nvSpPr>
        <p:spPr>
          <a:xfrm>
            <a:off x="4648320" y="449568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tegrated Marketing Communication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43" name="Picture 3" descr=""/>
          <p:cNvPicPr/>
          <p:nvPr/>
        </p:nvPicPr>
        <p:blipFill>
          <a:blip r:embed="rId1"/>
          <a:srcRect l="0" t="5046" r="0" b="10861"/>
          <a:stretch/>
        </p:blipFill>
        <p:spPr>
          <a:xfrm>
            <a:off x="457200" y="30492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electing Promotional Mix tool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Several factors affect which promotional mix tools to use when communicating with customer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ize and type of Target Audienc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tage in the Product Life Cycle that the product is at.</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Characteristics of the Product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tage of the Buying Decision that the Consumer is at.</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Marketing Channel Strategy being use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8" name="PlaceHolder 1"/>
          <p:cNvSpPr>
            <a:spLocks noGrp="1"/>
          </p:cNvSpPr>
          <p:nvPr>
            <p:ph type="title"/>
          </p:nvPr>
        </p:nvSpPr>
        <p:spPr>
          <a:xfrm>
            <a:off x="457200" y="277560"/>
            <a:ext cx="8229600" cy="1398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The Stage in the Product Life Cycle </a:t>
            </a:r>
            <a:br>
              <a:rPr sz="4000"/>
            </a:br>
            <a:endParaRPr b="0" lang="en-US" sz="4000" spc="-1" strike="noStrike">
              <a:solidFill>
                <a:srgbClr val="ffffcc"/>
              </a:solidFill>
              <a:latin typeface="Arial"/>
            </a:endParaRPr>
          </a:p>
        </p:txBody>
      </p:sp>
      <p:pic>
        <p:nvPicPr>
          <p:cNvPr id="149" name="Picture 3" descr=""/>
          <p:cNvPicPr/>
          <p:nvPr/>
        </p:nvPicPr>
        <p:blipFill>
          <a:blip r:embed="rId1"/>
          <a:srcRect l="0" t="5046" r="0" b="14225"/>
          <a:stretch/>
        </p:blipFill>
        <p:spPr>
          <a:xfrm>
            <a:off x="457200" y="152388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7:24:57Z</dcterms:modified>
  <cp:revision>20</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